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7688-EDE3-46CD-A656-7B2B9D9BF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to ice bath—new year (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day of each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983-E514-4F43-B1C5-91D0B7356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B96-853B-438B-90A3-7D29F193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3EE-1EF2-40CE-8CE9-9CD094BE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5C5-7A56-440F-96AA-F88113A8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DED-84E3-41C9-B2ED-0EC75E52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125-B3DA-4D0A-835C-D846CD1B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614-E64E-4D2F-B4A4-7D311EDA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788-4FBC-4778-885F-D5A1977B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7AE-DDC6-4DC2-9305-55C2130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52F-5009-45CE-8FA2-813F640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AF4-2816-46E8-A263-82EDD3D9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D0F-E252-4053-9F1A-2356500F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A76-D91E-498C-A099-4C7CA7F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N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F218-241C-4F6F-A583-5EABE4F4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4545000" cy="26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Japan’s Feud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4495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a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.____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s://upload.wikimedia.org/wikipedia/commons/a/a6/Samurai_on_horseback0.jpg"/>
          <p:cNvPicPr/>
          <p:nvPr/>
        </p:nvPicPr>
        <p:blipFill>
          <a:blip r:embed="rId1"/>
          <a:stretch/>
        </p:blipFill>
        <p:spPr>
          <a:xfrm>
            <a:off x="5052960" y="1066680"/>
            <a:ext cx="379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gr1-dun"/>
          <p:cNvPicPr/>
          <p:nvPr/>
        </p:nvPicPr>
        <p:blipFill>
          <a:blip r:embed="rId1"/>
          <a:stretch/>
        </p:blipFill>
        <p:spPr>
          <a:xfrm>
            <a:off x="0" y="685800"/>
            <a:ext cx="7229520" cy="5419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079960" y="762120"/>
            <a:ext cx="3664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id he ru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peror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.  In fac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a mili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ctator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ed Ja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m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were Japanese lords or no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had to obey the Shogun and provide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controlled large estates.  They were great land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aimyo"/>
          <p:cNvPicPr/>
          <p:nvPr/>
        </p:nvPicPr>
        <p:blipFill>
          <a:blip r:embed="rId1"/>
          <a:stretch/>
        </p:blipFill>
        <p:spPr>
          <a:xfrm>
            <a:off x="380880" y="457200"/>
            <a:ext cx="3733920" cy="5410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305960" y="1371600"/>
            <a:ext cx="414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myo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 landow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feudal Ja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we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st no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o the Shog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mu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military protection for their lands, Japanese daimyo recruited samur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were Japanese warr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had to provide military service and obey the Daimyo and Sho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matabeib"/>
          <p:cNvPicPr/>
          <p:nvPr/>
        </p:nvPicPr>
        <p:blipFill>
          <a:blip r:embed="rId1"/>
          <a:stretch/>
        </p:blipFill>
        <p:spPr>
          <a:xfrm>
            <a:off x="2895480" y="533520"/>
            <a:ext cx="3333960" cy="3276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1065240" y="4114800"/>
            <a:ext cx="699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urai were Japanese warrio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had to be loyal, brave,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rl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of Bus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warriors had to follow the Code of Bush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of Bushido was similar to European chival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urai had to be loyal to his daimyo and show no e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seppuku3"/>
          <p:cNvPicPr/>
          <p:nvPr/>
        </p:nvPicPr>
        <p:blipFill>
          <a:blip r:embed="rId1"/>
          <a:stretch/>
        </p:blipFill>
        <p:spPr>
          <a:xfrm>
            <a:off x="2666880" y="304920"/>
            <a:ext cx="342900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990360" y="4800600"/>
            <a:ext cx="73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amurai lost his honor, he 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commit ritual suicide or seppuk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pare and contrast Japanese and European feudalism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y did the Japanese emperor lose his pow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o was the Shogun and why was he powerful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was the relationship between the Daimyo and the Shogun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5. Who were Samurai and what was the Code of Bushido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 Define these ter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hog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aimy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amura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de of Bushi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https://ssl.c.photoshelter.com/img-get/I0000FJBCcdMkfW0/s/500/aflo-vvna-kandashrineicebath5309.jpg"/>
          <p:cNvPicPr/>
          <p:nvPr/>
        </p:nvPicPr>
        <p:blipFill>
          <a:blip r:embed="rId1"/>
          <a:stretch/>
        </p:blipFill>
        <p:spPr>
          <a:xfrm>
            <a:off x="3257640" y="2913120"/>
            <a:ext cx="5898960" cy="3940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antarapos.com/en/images/news_images_upload/content/Japan_Ice_New_Year.jpg"/>
          <p:cNvPicPr/>
          <p:nvPr/>
        </p:nvPicPr>
        <p:blipFill>
          <a:blip r:embed="rId2"/>
          <a:stretch/>
        </p:blipFill>
        <p:spPr>
          <a:xfrm>
            <a:off x="22320" y="-228600"/>
            <a:ext cx="59436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750x750_japan_m"/>
          <p:cNvPicPr/>
          <p:nvPr/>
        </p:nvPicPr>
        <p:blipFill>
          <a:blip r:embed="rId1"/>
          <a:stretch/>
        </p:blipFill>
        <p:spPr>
          <a:xfrm>
            <a:off x="1143000" y="152280"/>
            <a:ext cx="680076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1293480" y="5486400"/>
            <a:ext cx="66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an is an archipelago in A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Barroso wants her students to write an essay about what they’ve learned about Japan and Europe. She’s having trouble coming up with a good essay question though!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 her! Plea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up with a good essay question asking students to show what they know about Japan and/or Europe’s history during Era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s. Barroso wants her students to write an essay about what they’ve learned about Japan and Europe. She’s having trouble coming up with a good essay question though!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p her! Pleas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 up with a good essay question asking students to show what they know about Japan and/or Europe’s history during Er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ta Essay Prompt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141732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Explain the difference between Japan and Europe during Era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you were sent back in time, would you rather live in Japan or Europe during Era 1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What would Japan have looked like under Christianity, and what would Europe have looked like under Shintois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eror Loses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100s, the emperor of Japan’s power was greatly weakened by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families refused to pay taxes to the emperor.  They grew rich and bought much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one noble family grew more powerful than any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kendo"/>
          <p:cNvPicPr/>
          <p:nvPr/>
        </p:nvPicPr>
        <p:blipFill>
          <a:blip r:embed="rId1"/>
          <a:stretch/>
        </p:blipFill>
        <p:spPr>
          <a:xfrm>
            <a:off x="2057400" y="304920"/>
            <a:ext cx="510552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13320" y="4648320"/>
            <a:ext cx="72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ble families did not want to ob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mperor.  They wanted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remember European feudal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s://mrgrayhistory.wikispaces.com/file/view/E_Middle_Ages_-_Japan.JPG/244140813/893x522/E_Middle_Ages_-_Japan.JPG"/>
          <p:cNvPicPr/>
          <p:nvPr/>
        </p:nvPicPr>
        <p:blipFill>
          <a:blip r:embed="rId1"/>
          <a:stretch/>
        </p:blipFill>
        <p:spPr>
          <a:xfrm>
            <a:off x="914400" y="1905120"/>
            <a:ext cx="73515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eudalism in Japan and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10240" y="1984320"/>
            <a:ext cx="386856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360" y="1984320"/>
            <a:ext cx="388800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2.bp.blogspot.com/-Mz_Xz_Mf8v8/UAy5hUaFqQI/AAAAAAAABdE/a7mI9xgbMi0/s1600/Bodiam%2BCastle.jpg"/>
          <p:cNvPicPr/>
          <p:nvPr/>
        </p:nvPicPr>
        <p:blipFill>
          <a:blip r:embed="rId1"/>
          <a:stretch/>
        </p:blipFill>
        <p:spPr>
          <a:xfrm>
            <a:off x="4724280" y="2895480"/>
            <a:ext cx="4191120" cy="327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happybirthdaywishesimages.com/wp-content/uploads/2013/01/Himeji-Castle.jpg"/>
          <p:cNvPicPr/>
          <p:nvPr/>
        </p:nvPicPr>
        <p:blipFill>
          <a:blip r:embed="rId2"/>
          <a:stretch/>
        </p:blipFill>
        <p:spPr>
          <a:xfrm>
            <a:off x="228600" y="2895480"/>
            <a:ext cx="4267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 of feudalism, similar to that found in European feudalism, arose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udal society, land is exchanged for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lords gave away some of their land to other people in exchange for loyalty and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gcuonline.georgian.edu/wootton_l/Medieval_files/image004.gif"/>
          <p:cNvPicPr/>
          <p:nvPr/>
        </p:nvPicPr>
        <p:blipFill>
          <a:blip r:embed="rId1"/>
          <a:stretch/>
        </p:blipFill>
        <p:spPr>
          <a:xfrm>
            <a:off x="766800" y="2125800"/>
            <a:ext cx="3594240" cy="3686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1844640"/>
            <a:ext cx="386856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8880" y="1892160"/>
            <a:ext cx="388764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s://the24hourtala.files.wordpress.com/2011/03/feudal2.gif"/>
          <p:cNvPicPr/>
          <p:nvPr/>
        </p:nvPicPr>
        <p:blipFill>
          <a:blip r:embed="rId2"/>
          <a:stretch/>
        </p:blipFill>
        <p:spPr>
          <a:xfrm>
            <a:off x="5267160" y="1838160"/>
            <a:ext cx="34592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 of Japan’s most powerful family forced the emperor to appoint him sho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Shogun” means “great gene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next 700 years, powerful shoguns governed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11:43Z</dcterms:created>
  <dc:creator>White Plains City School District</dc:creator>
  <dc:description/>
  <dc:language>en-US</dc:language>
  <cp:lastModifiedBy>Elaina Barroso</cp:lastModifiedBy>
  <cp:lastPrinted>2017-12-13T16:47:46Z</cp:lastPrinted>
  <dcterms:modified xsi:type="dcterms:W3CDTF">2017-12-13T20:58:52Z</dcterms:modified>
  <cp:revision>14</cp:revision>
  <dc:subject/>
  <dc:title>Japan’s Feudal Period</dc:title>
</cp:coreProperties>
</file>